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121-0D51-4D81-AFC9-947EAC3A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76C-C39C-4F56-B2CB-0521D769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2E2-BCBA-4572-8EB1-C6CC9353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F2D-8B9F-4C8A-AA69-B05299FB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F6E-716F-4DAE-8480-4D8F796A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193-D3BA-4A99-93BE-D0E8A690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9D3-EA22-4763-ADC6-4CCB4AC4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2E0-1F57-48EF-A49B-537FF6D2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11E-3396-4732-BDE4-D74DD41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8D9-949C-434C-9740-7AB21DE2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2B5-D4CF-4E2C-AE31-10D9B727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2BF-BAC7-4D91-A8E1-8B06FD11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A872-2B0B-4FEC-8FC7-3A8DF3916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affect of adding hot water to cold water on the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rah Fotherg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odey Wamb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urpose and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Purpose- To see if adding different temperatures of hot water affects the temperature of really cold water, when mixed toget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ypothesis- The temperature will increase slowly as the amount of hot water increas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6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9000"/>
                            </p:stCondLst>
                            <p:childTnLst>
                              <p:par>
                                <p:cTn id="7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Independent Variable, Levels and Dependent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dependent Variable- Time (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vel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pendent Variable- Temperature (Degrees Cels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8120" y="2514600"/>
          <a:ext cx="3078000" cy="2060640"/>
        </p:xfrm>
        <a:graphic>
          <a:graphicData uri="http://schemas.openxmlformats.org/drawingml/2006/table">
            <a:tbl>
              <a:tblPr/>
              <a:tblGrid>
                <a:gridCol w="1377720"/>
                <a:gridCol w="505440"/>
                <a:gridCol w="460080"/>
                <a:gridCol w="519840"/>
                <a:gridCol w="216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pic>
        <p:nvPicPr>
          <p:cNvPr id="5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6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7500"/>
                            </p:stCondLst>
                            <p:childTnLst>
                              <p:par>
                                <p:cTn id="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Const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amount of water started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amount of water ad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Both of the beak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type of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burner and burner st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lab equipm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1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lab equipment out as fo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rmometer              Graduated Cyl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emperature Sensor                   Compu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lcohol Burner             Alcohol Burner 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 Be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t up the lab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asure 50 mL. of cold wat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asure 50 mL. of tepid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t beaker 2 on the burner sta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ur the water into beaker 1 and pour the tepid water into beaker 2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ght the alcohol burn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ry 2 minutes add 10 mL. of the hot wat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rd your data onto a tabl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fter completing 2 trials clean up the lab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36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6000"/>
                            </p:stCondLst>
                            <p:childTnLst>
                              <p:par>
                                <p:cTn id="24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6500"/>
                            </p:stCondLst>
                            <p:childTnLst>
                              <p:par>
                                <p:cTn id="25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7500"/>
                            </p:stCondLst>
                            <p:childTnLst>
                              <p:par>
                                <p:cTn id="26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8000"/>
                            </p:stCondLst>
                            <p:childTnLst>
                              <p:par>
                                <p:cTn id="26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8500"/>
                            </p:stCondLst>
                            <p:childTnLst>
                              <p:par>
                                <p:cTn id="26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9000"/>
                            </p:stCondLst>
                            <p:childTnLst>
                              <p:par>
                                <p:cTn id="27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9500"/>
                            </p:stCondLst>
                            <p:childTnLst>
                              <p:par>
                                <p:cTn id="27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7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0"/>
                            </p:stCondLst>
                            <p:childTnLst>
                              <p:par>
                                <p:cTn id="28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500"/>
                            </p:stCondLst>
                            <p:childTnLst>
                              <p:par>
                                <p:cTn id="28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5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9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1500"/>
                            </p:stCondLst>
                            <p:childTnLst>
                              <p:par>
                                <p:cTn id="29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3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2000"/>
                            </p:stCondLst>
                            <p:childTnLst>
                              <p:par>
                                <p:cTn id="29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7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2500"/>
                            </p:stCondLst>
                            <p:childTnLst>
                              <p:par>
                                <p:cTn id="30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1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3000"/>
                            </p:stCondLst>
                            <p:childTnLst>
                              <p:par>
                                <p:cTn id="30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5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30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9" dur="5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295280"/>
          <a:ext cx="8229600" cy="51786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ime (min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rial 1 temperature of water added (Degrees Celsi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rial 1 temperature of wa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Degrees Celsi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rial 2 temperature of water added (Degrees Celsi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rial 2 temperature of water added (Degrees Celsi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he Starting temperature of th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Degrees Celsi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None ad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None ad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5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8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8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5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5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40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temperature was at highest 101 degrees Celsius for both trial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temperature was at lowest 29.1 degrees Celsius for both tria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temperature of the water after the hot water was added was at highest 52.3 degrees Celsius and at lowest 4.6 degrees Celsiu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20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ypothesis was correct because as hot water was added the temperature did increase as we had sai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 happened because hot water has more thermal energy than the tepid wa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14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rmal energy was being transferred to the cold water the particles of the hot water that was added slowed dow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icles of the cold water sped u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process called thermal equilibriu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6104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15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6:34:39Z</dcterms:created>
  <dc:creator>default</dc:creator>
  <dc:description/>
  <dc:language>en-US</dc:language>
  <cp:lastModifiedBy>default</cp:lastModifiedBy>
  <dcterms:modified xsi:type="dcterms:W3CDTF">2008-01-08T18:02:11Z</dcterms:modified>
  <cp:revision>13</cp:revision>
  <dc:subject/>
  <dc:title>The affect of adding hot water to cold water on the temperature</dc:title>
</cp:coreProperties>
</file>